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6806-0EF4-4CCD-AF93-9D64565B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EDEE-E206-466B-ACE4-B6208779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78FC-6A1B-4669-9E4B-59B826A2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455F4-7168-4BFF-8414-449E2F6E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83973-63E8-477C-AADC-8ADAE9D1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5C22-56C5-422B-9953-4CA50E4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13CD-7A82-41B9-AD28-8FA9E181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3D7D-C4DB-425E-9D64-E816A618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AF5C-8E4F-461F-915D-12989ACC7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30D1-DDCC-4739-9BCD-F6316C57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F8880-BCC3-4CDE-BA51-747C9810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6C8CB-33CE-434C-BA69-497DC9CB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41F64-5702-4848-B3C5-ABFF54FB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F94C-7CF6-4BE5-9316-7D3F6329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865C6-DF85-44D5-9F55-8805B5FC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7F6B4-A466-49E5-A285-C3A32EAB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35FEF-A350-4BC7-AD79-A628A480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EA26-07EB-4F3F-B2A8-F1EA50F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FCF6-BA61-41CD-A770-10B91E44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4C63-27ED-4AF0-AD3F-BFA4940C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876C-FD6A-44D8-9F0B-44D7A350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834-52B3-4096-8C33-26902414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494-2461-4412-82DD-E5DBF060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21C-AB36-474A-92CF-E622BA05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BE6-37BE-47C4-B20E-8D910C6D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965-875A-4CDA-A28F-D923A807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F43-9F2D-490E-B92B-4937BE7C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750-A352-4E61-9830-1B3E9181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784-FBDE-46E6-AC6E-498230FA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CAB-CC6A-4778-B28F-5B47171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E509-3DD8-4D8F-9A07-5C2218F7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2F2-29F0-4EF5-A800-13498567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705-7A49-482C-B0EF-45D9E984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9EAB-D8DD-416E-A0A5-761C08B9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ABDB-A36E-475B-870D-66CEFE94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8BC0-E081-4C62-92BF-03161C08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2DC8-5202-461F-A4CA-A6B1F9F3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7B68-4633-491B-951E-07997349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C656-BACA-4F2C-A6C3-CC6A4C09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4AE7-C054-476A-BEC9-D119A236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4F74-A3BF-457A-B1D9-A9394FAA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946B-70F7-4F06-9050-C5D3E2A9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1F70-C326-44AB-B5F6-DEE7A85D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3723-023B-4827-8354-28417F5C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FB8E-FAFB-4F20-A018-FF2D7CE9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42259-8723-4BA2-8AB1-3BBD820A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6A67-27DA-4FBF-91D3-6822D5EB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4C15-6369-4A0C-96A9-003EFDD2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D79-94A2-41B1-A8C9-8BA904C837D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5BEC-42F9-47DA-B39D-A30B1AD4A25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A336-43BF-464D-BA9F-0CE56FA2CB7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125E-32C9-4D51-BA8D-62EB5DB2525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38160" y="1492200"/>
            <a:ext cx="91058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stock corralling, planting density and N fertilizer rate effect on soil quality, weed dynamics and maize yield in Northern Gha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1519200" y="5516640"/>
            <a:ext cx="587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FB2B-41EA-4F39-88AC-E0360640976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A0E3-FAE8-414A-91DB-F976D55E9A6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>
            <a:off x="6875640" y="-100080"/>
            <a:ext cx="2268360" cy="58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worm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5840" y="4276800"/>
            <a:ext cx="227808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8710560" y="0"/>
            <a:ext cx="43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3811-6977-4D6C-9E10-04AA265E7E1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7886520" cy="45813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6480" y="6454800"/>
            <a:ext cx="90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1.  Soil quality index triangle indicating sub-indices of quality index (Kang et al.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TextBox 1" descr=""/>
          <p:cNvPicPr/>
          <p:nvPr/>
        </p:nvPicPr>
        <p:blipFill>
          <a:blip r:embed="rId2"/>
          <a:stretch/>
        </p:blipFill>
        <p:spPr>
          <a:xfrm>
            <a:off x="109440" y="4761000"/>
            <a:ext cx="8991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0" y="6381720"/>
            <a:ext cx="8381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3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8639280" y="6361200"/>
            <a:ext cx="5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5F85-C708-49D7-B487-BECAC783776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-9360" y="-95400"/>
            <a:ext cx="9210600" cy="654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0" y="6308640"/>
            <a:ext cx="914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4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16960" y="637236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605D-5DE0-4532-AAEE-CBFE4B1169C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94EE-770C-4A97-837B-E5C345EB533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itle 1"/>
          <p:cNvSpPr/>
          <p:nvPr/>
        </p:nvSpPr>
        <p:spPr>
          <a:xfrm>
            <a:off x="-20520" y="15080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biolog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45400" y="74448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4D01-0EA5-47B0-A61A-482FE60CD03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1400" y="2084400"/>
          <a:ext cx="9082080" cy="4460760"/>
        </p:xfrm>
        <a:graphic>
          <a:graphicData uri="http://schemas.openxmlformats.org/drawingml/2006/table">
            <a:tbl>
              <a:tblPr/>
              <a:tblGrid>
                <a:gridCol w="1806120"/>
                <a:gridCol w="963000"/>
                <a:gridCol w="1078560"/>
                <a:gridCol w="1080000"/>
                <a:gridCol w="647280"/>
                <a:gridCol w="862920"/>
                <a:gridCol w="162000"/>
                <a:gridCol w="1430640"/>
                <a:gridCol w="1051560"/>
              </a:tblGrid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3. Soil chemical properties as affected by SD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37480" y="7286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F72F-5DEA-4CAC-B08B-A4A026DCA5C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700280"/>
          <a:ext cx="9082080" cy="5048280"/>
        </p:xfrm>
        <a:graphic>
          <a:graphicData uri="http://schemas.openxmlformats.org/drawingml/2006/table">
            <a:tbl>
              <a:tblPr/>
              <a:tblGrid>
                <a:gridCol w="2624400"/>
                <a:gridCol w="576000"/>
                <a:gridCol w="576000"/>
                <a:gridCol w="862560"/>
                <a:gridCol w="648720"/>
                <a:gridCol w="862920"/>
                <a:gridCol w="167040"/>
                <a:gridCol w="1570320"/>
                <a:gridCol w="1194120"/>
              </a:tblGrid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4. Soil phys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594640" y="7635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23B1-2921-4DFE-B7FA-6B7D0446025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76320" y="1762200"/>
          <a:ext cx="9005760" cy="4906800"/>
        </p:xfrm>
        <a:graphic>
          <a:graphicData uri="http://schemas.openxmlformats.org/drawingml/2006/table">
            <a:tbl>
              <a:tblPr/>
              <a:tblGrid>
                <a:gridCol w="2541600"/>
                <a:gridCol w="488880"/>
                <a:gridCol w="592200"/>
                <a:gridCol w="885600"/>
                <a:gridCol w="635040"/>
                <a:gridCol w="865080"/>
                <a:gridCol w="1603440"/>
                <a:gridCol w="1393920"/>
              </a:tblGrid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 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tle 1"/>
          <p:cNvSpPr/>
          <p:nvPr/>
        </p:nvSpPr>
        <p:spPr>
          <a:xfrm>
            <a:off x="30240" y="0"/>
            <a:ext cx="9075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5. Result of principal component analysis for selecting soil quality indicators under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690040" y="34920"/>
            <a:ext cx="45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1637-733A-4804-9FEC-58DC7A4B348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2840" y="911160"/>
          <a:ext cx="9094680" cy="5994360"/>
        </p:xfrm>
        <a:graphic>
          <a:graphicData uri="http://schemas.openxmlformats.org/drawingml/2006/table">
            <a:tbl>
              <a:tblPr/>
              <a:tblGrid>
                <a:gridCol w="2206800"/>
                <a:gridCol w="766440"/>
                <a:gridCol w="766800"/>
                <a:gridCol w="766800"/>
                <a:gridCol w="766800"/>
                <a:gridCol w="328680"/>
                <a:gridCol w="865080"/>
                <a:gridCol w="792360"/>
                <a:gridCol w="925560"/>
                <a:gridCol w="909360"/>
              </a:tblGrid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ulativ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ector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.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itle 1"/>
          <p:cNvSpPr/>
          <p:nvPr/>
        </p:nvSpPr>
        <p:spPr>
          <a:xfrm>
            <a:off x="4680" y="131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able 6. SDSG effect on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18400" y="836640"/>
            <a:ext cx="509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D870-9EAB-44CF-AC45-9655E6049D5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1955880"/>
          <a:ext cx="9144000" cy="4713120"/>
        </p:xfrm>
        <a:graphic>
          <a:graphicData uri="http://schemas.openxmlformats.org/drawingml/2006/table">
            <a:tbl>
              <a:tblPr/>
              <a:tblGrid>
                <a:gridCol w="3132000"/>
                <a:gridCol w="1584360"/>
                <a:gridCol w="1368360"/>
                <a:gridCol w="1295640"/>
                <a:gridCol w="1763640"/>
              </a:tblGrid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SG (heads h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em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127080" y="1936800"/>
            <a:ext cx="8929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and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FA8D-3396-4D1A-896D-726F50CAC76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67A7-5957-49C0-B387-33FDF1A87AD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A8B9-2572-43D3-A266-A60064EF120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45D5-264E-4515-BFBB-E2507812BE9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itle 1"/>
          <p:cNvSpPr/>
          <p:nvPr/>
        </p:nvSpPr>
        <p:spPr>
          <a:xfrm>
            <a:off x="108000" y="6338880"/>
            <a:ext cx="90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g. 4. Farmer preference for corralling technology  at Navr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02560" y="0"/>
            <a:ext cx="503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FFA2-257D-49B1-9C0C-8BEF8D8C756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Chart 4"/>
          <p:cNvGraphicFramePr/>
          <p:nvPr/>
        </p:nvGraphicFramePr>
        <p:xfrm>
          <a:off x="-50760" y="-34920"/>
          <a:ext cx="9194760" cy="63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34920"/>
                    <a:ext cx="91947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itle 1"/>
          <p:cNvSpPr/>
          <p:nvPr/>
        </p:nvSpPr>
        <p:spPr>
          <a:xfrm>
            <a:off x="0" y="6338880"/>
            <a:ext cx="9142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5. Farmer preference for maize density at Navr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72400" y="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9F3D-AB91-47DA-8443-8B750099584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Chart 4"/>
          <p:cNvGraphicFramePr/>
          <p:nvPr/>
        </p:nvGraphicFramePr>
        <p:xfrm>
          <a:off x="-50760" y="-22320"/>
          <a:ext cx="9193320" cy="63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5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22320"/>
                    <a:ext cx="919332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itle 1"/>
          <p:cNvSpPr/>
          <p:nvPr/>
        </p:nvSpPr>
        <p:spPr>
          <a:xfrm>
            <a:off x="28440" y="6288120"/>
            <a:ext cx="909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Fig. 6. Farmer preference for N fertilizer rate at Navron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8629560" y="0"/>
            <a:ext cx="51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3900-B487-4CC3-9326-2A7754597F6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Chart 4"/>
          <p:cNvGraphicFramePr/>
          <p:nvPr/>
        </p:nvGraphicFramePr>
        <p:xfrm>
          <a:off x="-50760" y="-50760"/>
          <a:ext cx="9194760" cy="63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itle 1"/>
          <p:cNvSpPr/>
          <p:nvPr/>
        </p:nvSpPr>
        <p:spPr>
          <a:xfrm>
            <a:off x="22320" y="1197000"/>
            <a:ext cx="5189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22320" y="1822320"/>
            <a:ext cx="91440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quality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y of farmers preferred maize performance under SDSG at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MPD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F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B523-9401-4E25-B4B9-8D8E00DB41F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6484-10B8-4D82-AEEC-92D65D059FA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itle 1"/>
          <p:cNvSpPr/>
          <p:nvPr/>
        </p:nvSpPr>
        <p:spPr>
          <a:xfrm>
            <a:off x="0" y="1197000"/>
            <a:ext cx="69483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Lessons and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108000" y="20606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s complained about theft of ani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Quality of manure from livestock was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upplementary feeding to improve manure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the quality manure also affects fodder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1394-6A51-480A-99FD-273D046AE00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90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4E54-D92B-48D3-A346-88D1EC0DF33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CF3D-0F9F-45B5-8029-E3315F5B9D0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5187-14F3-4E8D-A13E-76F1BC95AF5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46080" y="620640"/>
            <a:ext cx="91314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 preference for SDSG, MPD and NFR technologies on ma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EFA0-35CC-40C2-9C04-55D7622A5794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35CF-23C7-4C6C-B4DB-9618566142F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3EB1-DB28-489E-95C7-F78E825707E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108D-ED1A-40AB-A423-344AEEF2006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</cp:lastModifiedBy>
  <cp:lastPrinted>2015-09-01T11:16:39Z</cp:lastPrinted>
  <dcterms:modified xsi:type="dcterms:W3CDTF">2016-12-22T10:52:12Z</dcterms:modified>
  <cp:revision>973</cp:revision>
  <dc:subject/>
  <dc:title>Diapositiva 1</dc:title>
</cp:coreProperties>
</file>